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7BA-80A9-4BCA-92FF-F8E90D8D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58C-B54D-4554-B756-27A7AA1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D42-4C8A-4020-BA57-3EF1731B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ABE-B11B-4090-86C0-A7243F05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9C25-4F2F-4C8F-9DDE-36AC1E27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707C-D35D-4AEC-9DC3-7748E5E6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276A-4BA7-4525-A38D-EDFAF91D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3F3D-376A-49A1-987F-B31812B8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A2FA-9F7E-403B-B504-FA79E4DE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EBC2-1726-4294-B4AA-D3AF9D23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6E7D-CB12-47AD-947B-595B00F8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2B3-4FF8-4711-89DF-5168A12E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614E-DD01-4398-88A2-4DF4B56E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5B1F-836D-4555-B9CE-730C0AB0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89E4-167F-441E-9264-8893FBC9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186F-0C94-4E19-B497-65E0949D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A8CF-B8D0-4D07-A9D8-5A7EC054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9FD76-E6F4-4AC9-B56D-23226E22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52B72-E4EB-479A-8FB8-C8D66819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6250-DAD5-4E77-B98F-6FDA844B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DF86-99FA-4586-B9D2-18AB93B9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045C7-0CD9-4E61-8D7E-092EEEE4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1BE-6CFD-4A00-924B-7BB71A6C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2A91-A0E6-4A94-A85B-DDEA49EC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D5739-F928-43D1-80AF-BF15C8B4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C709-E15B-4CAA-A0E6-6D4027DB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8C04-75A4-4D7E-8455-B0F929E6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B3C0-1E52-4959-B790-3C6E8F75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FB33-8140-4EF5-B5E2-5CFA9B57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07BC-CB1C-485E-8C70-C22D7084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C981-65C8-40B5-8614-5AB8841F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2221-1E5F-4440-AEA2-72C32563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36831-F5C1-4D27-8033-335034EC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026-002A-4A16-A59A-9DEA223B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FEC6F-D4EF-43FE-AAB5-CD528931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24CEB-6055-4FEF-A69C-83ADB2DC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C40B6-EBD7-4CEB-A3ED-130425F5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45A46-1847-4C4B-B6BA-1EF5D161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3FF99-90C0-40A9-B432-B9D2680B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6151D-A385-49F8-B6F8-101F57CC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20C4A-6FA3-470A-A49A-1C5C16D0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36A83-3957-4D02-A29C-57B34BD4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A51FE-6291-4046-9793-63BE3859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9D9FF-B6C3-4393-B146-75AE2614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182-9AF0-40CC-A9D4-28188D49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8A545-AD85-45F7-A01D-03197CAF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41D80-485E-4FB8-ACC8-E7A1C22A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C4C3D-0C5B-45F1-A625-C5DE09AF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20321-BDB6-4F9C-9C04-CE612ABB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FD8F-F23A-4F8F-AEA4-2CF9764E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3D7CB-5C52-4BB4-808D-DE9E9548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B6D09-169C-449A-9CF8-FC03DB0B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DC5D2-1E39-4DAE-B89F-3703A443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DB714-1EA0-4268-BDBD-C6277446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C0DC1-DAEF-4374-B9D3-4B865BAC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339-CEB4-455B-AB09-6475B607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16BC0-0E37-41D3-90CC-9B41238A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A239F-A20F-417F-94DD-E7C28D0F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91D42-88EC-43E1-BA08-6F90BD49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3B73D-F9C9-4B0F-84AD-D853C767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38809-E3FB-4D17-ABB0-D6767370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14ABB-92CD-4256-96CA-2013A0DB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C6D87-98BA-4D2B-9A05-18287ECF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2696F-D613-4B86-992E-C3C7E712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B7396-B254-47F3-A67A-2A587CE3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46130-28D1-476C-995B-B0391EDE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A3A-C12E-4C21-B082-4525642C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82230-FD08-4C60-9BAE-D8BA76C6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E1B69-D83C-4A6C-A36D-32751391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C7FA9-DBC7-4F4F-934F-17DCE426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BF0-9591-403B-9B92-0D1AB470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DD7-CA1D-4814-BFC6-14AC1BE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C665D-ED56-4E3A-A540-459C18C4F4BD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F8E8B-DDF5-4BEB-8867-B350268F09A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4E890-9885-4C03-A296-EB9523F5E653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B8944-16CE-4F9F-9E4C-AD1B41C15A2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F39CC-C508-48D2-9AD9-B80E315FD71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3DD74-125C-4C4A-BAAC-F12568F7D1C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F8316-10BE-4083-A6F6-BA04C04497C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2B2C9-B7E9-4048-9137-AD7D4569C0F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A8244-6273-49AB-B831-22371F9E1D8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75894-3D95-48E0-9F8B-FC39C3B51CE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9FB1A-1948-4D69-BB93-75795BBEB7A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73567-7604-4D65-A7BD-73E49D99C14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uia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dimckenzie.com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3" descr=""/>
          <p:cNvPicPr/>
          <p:nvPr/>
        </p:nvPicPr>
        <p:blipFill>
          <a:blip r:embed="rId2"/>
          <a:stretch/>
        </p:blipFill>
        <p:spPr>
          <a:xfrm>
            <a:off x="682560" y="1554120"/>
            <a:ext cx="7778880" cy="22258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iane McKenz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ug 8, 200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genealogy illustrates change with inheritance over a small number of years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1" name="Content Placeholder 4" descr=""/>
          <p:cNvPicPr/>
          <p:nvPr/>
        </p:nvPicPr>
        <p:blipFill>
          <a:blip r:embed="rId2"/>
          <a:srcRect l="0" t="-4450" r="0" b="-4450"/>
          <a:stretch/>
        </p:blipFill>
        <p:spPr>
          <a:xfrm>
            <a:off x="457200" y="148104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4648320" y="1417680"/>
            <a:ext cx="4038480" cy="4157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ver a large number years, evolution produces tremendous diversity in forms of lif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ough the process of descent with modification, the common ancestor of life on Earth gave rise to the fantastic divers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see documented in the fossil record and around us to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olution means that humans, oak trees, hummingbirds, and whales all have some common ances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1904760"/>
            <a:ext cx="8229600" cy="40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wer points with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o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cont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uided Readin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ed to make up and stay up-to-date with cl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stservs to communicate with colleagues but they are only two w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nks to activities, games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www.quia.co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9" name="Title 2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2"/>
          <a:stretch/>
        </p:blipFill>
        <p:spPr>
          <a:xfrm>
            <a:off x="682560" y="530280"/>
            <a:ext cx="7778880" cy="11462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1490040" y="2362320"/>
            <a:ext cx="756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more powerful power points with interactive 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creentoasters.com has allowed us to implement U tube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nkabl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connectedness with my students (commun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new techniques and unafraid to try new t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with other group pages through n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e students to new types of assignments “podcasts” “imovies”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ly I wanted to develop a Blackboard site but because on 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I put together my yahoo site with unlimited storage an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build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2"/>
          <a:stretch/>
        </p:blipFill>
        <p:spPr>
          <a:xfrm>
            <a:off x="682560" y="1749600"/>
            <a:ext cx="7778880" cy="2036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dimckenzie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2"/>
          <a:stretch/>
        </p:blipFill>
        <p:spPr>
          <a:xfrm>
            <a:off x="682560" y="603360"/>
            <a:ext cx="7778880" cy="1225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CRUZER 1GB:st_screencast.mov"/>
          <p:cNvPicPr/>
          <p:nvPr/>
        </p:nvPicPr>
        <p:blipFill>
          <a:blip r:embed="rId3"/>
          <a:stretch/>
        </p:blipFill>
        <p:spPr>
          <a:xfrm>
            <a:off x="533520" y="1752480"/>
            <a:ext cx="80643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evolu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evolution have to do with m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vidence is there for evolu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history of evolu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spcAft>
                <a:spcPts val="42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croevolution - changes in gene frequency in a population from one generation to the nex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croevolution - the descent of different species from a common ancestor over many gener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0" name="Title 2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olution is not simply a matter of change over tim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ees lose their leav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93" name="Content Placeholder 4" descr=""/>
          <p:cNvPicPr/>
          <p:nvPr/>
        </p:nvPicPr>
        <p:blipFill>
          <a:blip r:embed="rId2"/>
          <a:srcRect l="-1724" t="0" r="-1724" b="0"/>
          <a:stretch/>
        </p:blipFill>
        <p:spPr>
          <a:xfrm>
            <a:off x="4648320" y="148104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untain ranges rise and erod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4724280" y="1417680"/>
            <a:ext cx="390204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8:28:48Z</dcterms:created>
  <dc:creator>College of Education</dc:creator>
  <dc:description/>
  <dc:language>en-US</dc:language>
  <cp:lastModifiedBy>College of Education</cp:lastModifiedBy>
  <dcterms:modified xsi:type="dcterms:W3CDTF">2009-08-08T18:57:33Z</dcterms:modified>
  <cp:revision>4</cp:revision>
  <dc:subject/>
  <dc:title>Evolution</dc:title>
</cp:coreProperties>
</file>